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EE8-DC71-475D-906D-44C56463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FF5-ECB5-4044-8DAF-90B974F2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2CC-9718-4311-A59B-BD7EFA28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6E4-3DF9-4D20-B7FB-7A59EF2F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442E-A4A0-4DE0-958A-AD7D6C76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54E6-454D-4560-88EA-CDF67B26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4D97-AC4F-4E10-A15C-C7A666C0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7716-4F41-40EB-9EC6-EC36CA28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C354-4A89-443F-A066-8C522C70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277-B3EA-4DA9-979C-07545CA3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597F-5BFB-40D9-B4C7-77814C7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2A0-597B-4F6E-B557-E2E6BA5E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4604-A0EA-4062-A4D9-5A74D943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A039-9C91-425B-A49E-E2B729F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3AED-A3D9-471F-866B-B074F7AD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A1A6-EAF9-49AD-A30B-2AD68CD3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C383-7AF5-4C36-AAE1-216346F9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586-84B9-4DFF-8660-4D8273DD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0F6-80E5-4EE8-998C-76BAC9E0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F70-F7F7-4D7E-A8B9-6702F8F2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C4A-030E-43E0-908B-8F8379FF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98C-6B27-4F1B-A233-F8F88E89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6E4-B74C-46D4-B3E1-CAF5D700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319-88AD-4AA0-8A5F-67DF83FA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4B39-060A-4CB3-8365-955B6BE8986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0E4E-F9FF-4AC2-ABE9-E8130457F1E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671508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宋体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  <a:ea typeface="宋体"/>
              </a:rPr>
              <a:t>Socialization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8840" y="407196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  <a:ea typeface="宋体"/>
              </a:rPr>
              <a:t>Prepared by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Tamsila Satt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835280" y="0"/>
            <a:ext cx="70228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flowers"/>
          <p:cNvPicPr/>
          <p:nvPr/>
        </p:nvPicPr>
        <p:blipFill>
          <a:blip r:embed="rId1"/>
          <a:stretch/>
        </p:blipFill>
        <p:spPr>
          <a:xfrm>
            <a:off x="6072120" y="1357200"/>
            <a:ext cx="2786040" cy="1785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2500200" y="1285920"/>
            <a:ext cx="30718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a3d7a"/>
                </a:solidFill>
                <a:latin typeface="Times New Roman"/>
              </a:rPr>
              <a:t>Culture and Socialization</a:t>
            </a:r>
            <a:br>
              <a:rPr sz="4000"/>
            </a:br>
            <a:r>
              <a:rPr b="0" lang="en-CA" sz="4000" spc="-1" strike="noStrike">
                <a:solidFill>
                  <a:srgbClr val="2a3d7a"/>
                </a:solidFill>
                <a:latin typeface="Times New Roman"/>
              </a:rPr>
              <a:t>Pandya and Chispa experim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5b5249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b5249"/>
                </a:solidFill>
                <a:latin typeface="Times New Roman"/>
              </a:rPr>
              <a:t>Students complete a role-play activity and analyze the resul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b5249"/>
                </a:solidFill>
                <a:latin typeface="Times New Roman"/>
              </a:rPr>
              <a:t>Students gain skills in observing and describing behaviour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b5249"/>
                </a:solidFill>
                <a:latin typeface="Times New Roman"/>
              </a:rPr>
              <a:t>Students develop an understanding of how our cultural values influence the way we view other group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Socialization 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Humans learn the expectations of society through socialization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Socialization is different based on race, gender and clas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.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How many agents of socialization can you name?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RAINSTORM LIST OF STATEMENTS AS A CLA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Famil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eer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lubs, social group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. Family is the most important agent of socialization because…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amily provides initial love and nurtur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ransmission of social and cultural valu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imary source of love and suppor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rst social experiences happen within famil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4. 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ocial Norms and Peer Pressur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dividuals must earn acceptance from their peers by conforming to the groups social norms (dress, speech patterns, attitud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 other words when we conform to our peers norms we are rewarded by acceptance within the grou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ose who do not conform to this form of “peer pressure” may be socially isolated or expelled from the grou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5. 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hildren Also Socialize Parents!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ization is a 2-way proc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ildren teach parents about the latest fads, clothing, music and langua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ents may also learn attitudes and behaviors about drug use, sexuality, sports leisure  and ethnic issues from their grown childr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6. Racial-Ethnic Socializati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thnocentris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cholars may be hesitant to point out differences in socialization practices among diverse ethnic and social class groupings because such differences have typically been interpreted by others as a sign of inadequate (or inferior) socialization practi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9. Socialization is a lifelong process…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You are socialized in infancy and childhood by famil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 childhood/ adolescence we are socialized by our peers and other agents such as school and med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ter in adulthood we learn lessons related to socialization in addition to those agents mentioned. Consider work, government and even out children and grandchildr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0.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 Resocializatio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Voluntary Resocialization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hen we assume a new status of our own free will (student, employee, retiree, religious conversion, medical or psychological treatment, rehabilitatio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nvoluntary Resocialization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occurs within a total institution (under the control of officials in isolated conditions). It generally occurs against a person’s wishes and are stripped of their former selves and depersonalized and made to adopt a new set of behaviors( Prisons, military boot camps, concentration camps, some mental hospital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2:27:19Z</dcterms:created>
  <dc:creator>RASHID MUNIR</dc:creator>
  <dc:description/>
  <dc:language>en-US</dc:language>
  <cp:lastModifiedBy>Ikram</cp:lastModifiedBy>
  <dcterms:modified xsi:type="dcterms:W3CDTF">2020-03-27T12:12:51Z</dcterms:modified>
  <cp:revision>19</cp:revision>
  <dc:subject/>
  <dc:title>SOCIALIZATION:  TEXTBOOK ASSIGNMENT</dc:title>
</cp:coreProperties>
</file>